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237911"/>
        <c:axId val="96557752"/>
      </c:barChart>
      <c:catAx>
        <c:axId val="962379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557752"/>
        <c:crosses val="autoZero"/>
        <c:auto val="1"/>
        <c:lblAlgn val="ctr"/>
        <c:lblOffset val="100"/>
        <c:noMultiLvlLbl val="0"/>
      </c:catAx>
      <c:valAx>
        <c:axId val="965577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2379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B1D8-C8BF-4B4D-BFE0-C0580145D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E2C5-E389-4F60-B094-8E1B3BE5E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575A-86EF-4D2E-8F98-84DFECE3E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1626-ED22-4BA0-8156-8F7669161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CA74-1F43-4334-B56D-7BCE70C64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5ED2-5249-4C87-A9BE-DF0F665EE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5EC3-0B57-4AFD-BE44-E7E39144D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4626-8B84-4337-A689-1B977EDDA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441E-F716-4B3B-942E-0689D5464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AB1F-38BE-4465-93F1-33F7CD5B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7F24-2407-44D7-9E12-5F025CDB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09EA-8D90-4881-83F2-EF529E96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FA98BC-4429-4EA5-BC62-F0883CE10B2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